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45B2C-F0C5-4E41-801A-923431353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3A1D4-437F-4F2E-8DDA-98584180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2C3D2-C442-4975-91CC-B8ABBB1CE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514ED-5E61-448C-B434-E5585D2B0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9091-D423-465D-8C07-F35F1D574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0AF7-5253-41CA-A525-4E67A333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2886-55A8-427A-B8A2-BD8D58C7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E45CA-E2CA-4772-A2A6-392CFBCC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EE6DA-3683-47A3-B01A-9A1EFCCA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D8D8-3502-4998-9BCE-56C3DCFF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1BAE-7717-492C-823C-A167C64D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FBE2F-833F-48DA-BD7D-03BB0AFB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9A6D-BAA1-430B-B237-59B0B842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C1C3B-72C9-464D-80FC-B88116DA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727B-3A7F-430F-B86C-DEC0DD96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9EB89-B151-43EA-A262-D616A4F1B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FFD13-5D4E-4425-BD8B-0A1727865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74D3D-B37E-44ED-BC5A-558D535E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93FB3-1536-4C2B-8FC9-7D640F73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EC952-B2BE-48C5-81CB-7833C475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535B0-6DA8-4546-962B-F0265233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B1022-A33A-4955-902B-D7523BCC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678F5-ABE0-4657-81DB-80240FB7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912C5-5581-4DFD-942B-D31B105D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C17E-1A7D-4B43-AA3F-1D9F661EFA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390A-A717-46DD-9A36-4156F56318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93600" y="1752480"/>
            <a:ext cx="6108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AA HFIP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gh-Resolution Hurricane Tes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-update 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140000" y="4406400"/>
            <a:ext cx="46227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igia Bernarde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pril 16, 2009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OM – Rapid Intensification Vx (14 observ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Rectangle 15"/>
          <p:cNvGraphicFramePr/>
          <p:nvPr/>
        </p:nvGraphicFramePr>
        <p:xfrm>
          <a:off x="495360" y="1523880"/>
          <a:ext cx="8062920" cy="456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Rectangle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523880"/>
                    <a:ext cx="8062920" cy="456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952560" y="5816520"/>
            <a:ext cx="2158920" cy="25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931760" indent="9711360" algn="r">
              <a:spcBef>
                <a:spcPts val="125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t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70280" y="5816520"/>
            <a:ext cx="21589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931760" indent="9711360" algn="ctr">
              <a:spcBef>
                <a:spcPts val="125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11680" y="5813280"/>
            <a:ext cx="134640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931760" indent="9711360" algn="ctr">
              <a:spcBef>
                <a:spcPts val="125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5813280"/>
            <a:ext cx="21589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931760" indent="9711360">
              <a:spcBef>
                <a:spcPts val="125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2760" y="27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RH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25760"/>
            <a:ext cx="834408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99cc"/>
              </a:buClr>
              <a:buSzPct val="6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the effect of increasing horizontal resolut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ithin a given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hurricane intensity forec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99cc"/>
              </a:buClr>
              <a:buSzPct val="6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 data set to explore the potential value of a multi-model ensemble for improving hurricane forec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icipa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modeling groups (URI: 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GFD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UWM: 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UW Non-hydro Modeling 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OML:  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WRF-NM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NRL:  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COAM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MMM:  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WRF-AR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SU: 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WRF-AR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F Developmental Testbed Center (D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Hurricane Center (NH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82760" y="1652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-Test preparations at DT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9800" y="12013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ized prioritized list of cases (10 storms – 69 ca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archive of input and verification data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d method for transferring files to/from modeling groups and D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nged computer resources for some modeling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standardized I/O (Output Module - 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ained / ported / adapted / developed / automated verification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FDL Tracker – many changes for high-res moving nests (collaboration with Tim Marchok of GFD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HC 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id Intensification / Weakening (RI/RW) 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s (NCAR Command Langu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31640" y="1531800"/>
            <a:ext cx="8229600" cy="12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casts delivered to DTC September 2008 – January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shop and Final Report – March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9720" y="5940360"/>
            <a:ext cx="7404120" cy="141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931760" indent="9711360">
              <a:spcBef>
                <a:spcPts val="125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Report (HFIP - Fred Toepfer) – June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9720" y="4843440"/>
            <a:ext cx="740412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931760" indent="9711360">
              <a:spcBef>
                <a:spcPts val="125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shop – 7-8 May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9720" y="4295880"/>
            <a:ext cx="8293320" cy="199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931760" indent="9711360">
              <a:spcBef>
                <a:spcPts val="125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y of all  runs to be analyzed for Workshop – April 08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9720" y="5392800"/>
            <a:ext cx="8293320" cy="174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931760" indent="9711360">
              <a:spcBef>
                <a:spcPts val="125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y of all runs to be analyzed for Report – May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9720" y="3746520"/>
            <a:ext cx="8293320" cy="141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931760" indent="9711360">
              <a:spcBef>
                <a:spcPts val="125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tests of I/O implementation – March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ontent Placeholder 2"/>
          <p:cNvSpPr/>
          <p:nvPr/>
        </p:nvSpPr>
        <p:spPr>
          <a:xfrm>
            <a:off x="419040" y="3030480"/>
            <a:ext cx="82296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ed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9040" y="253800"/>
            <a:ext cx="822960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– April 19, 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135080" y="1392120"/>
          <a:ext cx="4592520" cy="4370400"/>
        </p:xfrm>
        <a:graphic>
          <a:graphicData uri="http://schemas.openxmlformats.org/drawingml/2006/table">
            <a:tbl>
              <a:tblPr/>
              <a:tblGrid>
                <a:gridCol w="1954080"/>
                <a:gridCol w="1121040"/>
                <a:gridCol w="151740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ing 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M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a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a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a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n 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a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W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a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a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19040" y="253800"/>
            <a:ext cx="822960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ion Runs by April 08 dead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880920" y="1739880"/>
          <a:ext cx="7651800" cy="2970360"/>
        </p:xfrm>
        <a:graphic>
          <a:graphicData uri="http://schemas.openxmlformats.org/drawingml/2006/table">
            <a:tbl>
              <a:tblPr/>
              <a:tblGrid>
                <a:gridCol w="1530360"/>
                <a:gridCol w="1530360"/>
                <a:gridCol w="1530360"/>
                <a:gridCol w="1530360"/>
                <a:gridCol w="1530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ing 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ma (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ilippe (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ta (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rina (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M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a00"/>
                          </a:solidFill>
                          <a:latin typeface="Arial"/>
                        </a:rPr>
                        <a:t>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a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a00"/>
                          </a:solidFill>
                          <a:latin typeface="Arial"/>
                        </a:rPr>
                        <a:t>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a00"/>
                          </a:solidFill>
                          <a:latin typeface="Arial"/>
                        </a:rPr>
                        <a:t>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a00"/>
                          </a:solidFill>
                          <a:latin typeface="Arial"/>
                        </a:rPr>
                        <a:t>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a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a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n 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a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a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19040" y="253800"/>
            <a:ext cx="822960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Work at the DT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ontent Placeholder 2"/>
          <p:cNvSpPr/>
          <p:nvPr/>
        </p:nvSpPr>
        <p:spPr>
          <a:xfrm>
            <a:off x="152280" y="1379520"/>
            <a:ext cx="8991720" cy="45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0"/>
          </a:bodyPr>
          <a:p>
            <a:pPr marL="102600" indent="-10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cus on evaluating production runs for Miami Work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2840" indent="-8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2840" indent="-8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: retrieval of data, tracker, NHC Vx, RI/RW Vx, plots, arch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2840" indent="-8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on website http://www.dtcenter.org/plots/hrh_test/graphic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2840" indent="-8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cases of lost track. Manually inspecting reas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47400" indent="-1080360">
              <a:spcBef>
                <a:spcPts val="4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isorganized st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47400" indent="-1080360">
              <a:spcBef>
                <a:spcPts val="4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racker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2840" indent="-8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Verification for aggregations (for each model, all cases in a storm and all cases overa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284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284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o, evaluating test files and interacting with modeling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OM tracks Wilma 20051019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2280" y="2425680"/>
            <a:ext cx="4059360" cy="3652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368960" y="2435400"/>
            <a:ext cx="4059000" cy="36525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235240" y="6210360"/>
            <a:ext cx="3809880" cy="83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931760" indent="9711360">
              <a:spcBef>
                <a:spcPts val="125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is best track, blue A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2629080"/>
            <a:ext cx="147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931760" indent="9711360">
              <a:spcBef>
                <a:spcPts val="125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59400" y="2654280"/>
            <a:ext cx="147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931760" indent="9711360">
              <a:spcBef>
                <a:spcPts val="125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OM MSLP and 10-m wind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ma 2005101900 + 36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55680" y="2286000"/>
            <a:ext cx="4059000" cy="3652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508640" y="2311560"/>
            <a:ext cx="4059000" cy="36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20:34:34Z</dcterms:created>
  <dc:creator>jwolff</dc:creator>
  <dc:description/>
  <dc:language>en-US</dc:language>
  <cp:lastModifiedBy>ligia</cp:lastModifiedBy>
  <cp:lastPrinted>2009-02-13T18:06:16Z</cp:lastPrinted>
  <dcterms:modified xsi:type="dcterms:W3CDTF">2009-04-15T15:30:15Z</dcterms:modified>
  <cp:revision>291</cp:revision>
  <dc:subject/>
  <dc:title>Users Support: Status and Plans</dc:title>
</cp:coreProperties>
</file>